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6C85-CBD9-429D-9445-AF992473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1ED-5F86-40CC-AE4E-54AE445B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583A-4FB6-4C0F-A344-D11F9831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471E-5AB6-4892-8512-0E7E4AB5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C84-CAEC-4DBC-A297-DDFB4184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8DCC-2981-49C0-9A47-5BC65AF1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95A1-2430-44C4-8196-549F64BD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364E-D2D0-47E9-AC9B-C5385ECC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5BDD-E968-40C8-81E2-B513A690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580-3018-493A-83DF-6EE70677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7F68-BBA7-452C-996F-B8EA899F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ED24-3F13-4C87-BA3B-F2BBD590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8637-0410-4C83-8E99-BD41BB220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447920" y="1371600"/>
            <a:ext cx="647676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 de carri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ant de 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centrer à l'a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981080" y="1219320"/>
            <a:ext cx="586764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pays qui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ui a beauco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lu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905120" y="1523880"/>
            <a:ext cx="556236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 pein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andale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143000" y="990720"/>
            <a:ext cx="64008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pr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a beauco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tiqué son entr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 Sal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ville o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net a pass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 jeune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990720" y="990720"/>
            <a:ext cx="68580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Monet a pass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années de l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uer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anco-prussienn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752480" y="1219320"/>
            <a:ext cx="59436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  1ère fem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modè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équen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143000" y="1066680"/>
            <a:ext cx="66294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roblè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sique qu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changé 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leurs de 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i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371600" y="1143000"/>
            <a:ext cx="61722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vill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il est enterr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447920" y="1066680"/>
            <a:ext cx="60958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 vi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naiss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n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752480" y="1295280"/>
            <a:ext cx="52578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premi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va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tisti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752480" y="1066680"/>
            <a:ext cx="586764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malad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nt il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uffe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école à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447920" y="914400"/>
            <a:ext cx="60195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premi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ître/o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étier de s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1295280"/>
            <a:ext cx="541008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ille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iss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600200" y="1219320"/>
            <a:ext cx="586728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fes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p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523880" y="1219320"/>
            <a:ext cx="601992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 origin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carri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523880" y="1143000"/>
            <a:ext cx="563904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malad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a fin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 v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752480" y="1219320"/>
            <a:ext cx="586764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il a pei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toile achet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 un mus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371600" y="1447920"/>
            <a:ext cx="63244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ille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iss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n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143000" y="1143000"/>
            <a:ext cx="66294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rière av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'étudier l'a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90720" y="1066680"/>
            <a:ext cx="701028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ujet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gr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euvre à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iladelph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90720" y="1143000"/>
            <a:ext cx="67053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est consider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ont ent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manticisme et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295280" y="1371600"/>
            <a:ext cx="64008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ays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'il a beauco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i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523880" y="1219320"/>
            <a:ext cx="624852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'institu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'art offici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a refus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Impressionnis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219320" y="1219320"/>
            <a:ext cx="66294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ho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lus importan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pturer chez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Impressionnis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905120" y="1600200"/>
            <a:ext cx="5257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ils aimai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ind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143000" y="1371600"/>
            <a:ext cx="67057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ein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pons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e n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Impressionnistes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371600" y="990720"/>
            <a:ext cx="62485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'année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1è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 Refusé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no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82880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lad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luen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toi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è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endroi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orta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066680" y="2514600"/>
            <a:ext cx="6705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entifiez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ladi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fluenc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oi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èm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ndroi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dentifiez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763120" y="6477120"/>
            <a:ext cx="228600" cy="1522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90720" y="1295280"/>
            <a:ext cx="69339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arac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295280" y="1447920"/>
            <a:ext cx="64008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thri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g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752480" y="1828800"/>
            <a:ext cx="60199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ug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amb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put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600200" y="1371600"/>
            <a:ext cx="57913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t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neumon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600200" y="2057400"/>
            <a:ext cx="59436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pag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752480" y="1828800"/>
            <a:ext cx="58676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voy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bâtea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'Améri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su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295280" y="1143000"/>
            <a:ext cx="62485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maît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ugène Boudin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ysagis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676520" y="1371600"/>
            <a:ext cx="57909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prop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ard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ul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ffin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son p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éjeun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 l'Herb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ézan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371600" y="1143000"/>
            <a:ext cx="66294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ress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eil Leva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219320" y="1143000"/>
            <a:ext cx="66294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bureau d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ton à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uvelle-Orlé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8080" y="914400"/>
            <a:ext cx="71629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ymphé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066680" y="1219320"/>
            <a:ext cx="670572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Bar 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lies-Bergè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143000" y="1905120"/>
            <a:ext cx="66294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balleri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23880" y="1219320"/>
            <a:ext cx="59436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fem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ses et (un peu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os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219320" y="1371600"/>
            <a:ext cx="67816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inte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icto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905120" y="2438280"/>
            <a:ext cx="5257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va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371600" y="1066680"/>
            <a:ext cx="670572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mer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quefo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batail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 la m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rn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1600200"/>
            <a:ext cx="716256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ressionnis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ix-en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ve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mog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gentue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gnes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1900" descr=""/>
          <p:cNvPicPr/>
          <p:nvPr/>
        </p:nvPicPr>
        <p:blipFill>
          <a:blip r:embed="rId2"/>
          <a:stretch/>
        </p:blipFill>
        <p:spPr>
          <a:xfrm>
            <a:off x="2057400" y="1752480"/>
            <a:ext cx="5486400" cy="4457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2819520" y="541008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l'a pei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country" descr=""/>
          <p:cNvPicPr/>
          <p:nvPr/>
        </p:nvPicPr>
        <p:blipFill>
          <a:blip r:embed="rId2"/>
          <a:stretch/>
        </p:blipFill>
        <p:spPr>
          <a:xfrm>
            <a:off x="2590920" y="609480"/>
            <a:ext cx="4000320" cy="5715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3581280" y="518148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l'a pei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at-races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7010280" cy="4362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752480" y="175248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l'a pei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fishingboatsleaveharbor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6858000" cy="4149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2362320" y="99072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l'a pei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EdouardManet-LuncheonInTheStudio-VR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6019920" cy="460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2438280" y="99072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l'a pei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Bâteaux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ne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one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enoi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ega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ézann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mpression-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ism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ù a été le bâteau-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telier; et c'était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e qui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rgenteuil-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one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295280" y="2971800"/>
            <a:ext cx="6324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ille de naiss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dsa'ljg'prg</cp:lastModifiedBy>
  <dcterms:modified xsi:type="dcterms:W3CDTF">2008-06-24T10:30:58Z</dcterms:modified>
  <cp:revision>38</cp:revision>
  <dc:subject/>
  <dc:title>No Slide Title</dc:title>
</cp:coreProperties>
</file>